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3C24-98DA-446E-B68A-92D21864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A16-01FC-4E5D-B3E5-1CC2F165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18B-ECD5-488F-8C8F-99C07264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091-4115-488F-A581-B331A6E2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66C-F7FB-4FBC-B55A-08336401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8C3-768D-4743-A383-16A00C32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D3F0-44CA-4CBB-9FA1-00819F0E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F00-9115-4598-8350-23A60E2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278-EA8A-4ACC-9A38-97AD6E25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8110-4758-4C04-9409-3901ED00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249-30E4-45FD-9C09-142F4270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B7E-5F64-489C-8F1C-A6F42CEB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7589-FBFD-46E8-9203-A57CC7284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 Zeros of a Quadratic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457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754280"/>
            <a:ext cx="8686800" cy="1217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387600"/>
            <a:ext cx="8534520" cy="1911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16444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276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152280"/>
            <a:ext cx="8686800" cy="13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3:35:17Z</dcterms:modified>
  <cp:revision>10</cp:revision>
  <dc:subject/>
  <dc:title>Slide 1</dc:title>
</cp:coreProperties>
</file>